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34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55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6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177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29C-6B9C-47F2-9276-E8906EA1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2F2-FFDD-4DC1-89D9-1705966D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850-829E-4E16-9A72-2C61E859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8DF-8BA9-4ED4-B6CF-A2E073D5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3B2-9DD8-4EDA-96E4-10EC42BC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FD9-50BE-4C09-95AC-23478361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294-36B8-4D9A-8DC5-CA5414F7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184-1A4A-4593-BD03-64539CE4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2AB-DAC9-4306-8845-15E4717D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ED6-F8DC-4660-8167-708C5729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38C-65F5-4AF8-9217-CFAEFA72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67D-C146-4FAE-99D9-3289AAF1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0625-4482-45FE-AEE5-589E136AE5A4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freedictionary.com/" TargetMode="External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sideblog.com/images/2008/01/poke.jpg&amp;imgrefurl=http://www.myspace.com/slb68&amp;usg=__dmk5jvjE9349m9QU2hwrRJYDLLo=&amp;h=270&amp;w=360&amp;sz=39&amp;hl=en&amp;start=28&amp;tbnid=ImpEOa8s7bolxM:&amp;tbnh=91&amp;tbnw=121&amp;prev=/images?q=poke&amp;gbv=2&amp;ndsp=20&amp;hl=en&amp;sa=N&amp;start=20" TargetMode="External"/><Relationship Id="rId3" Type="http://schemas.openxmlformats.org/officeDocument/2006/relationships/image" Target="../media/image40.jpeg"/><Relationship Id="rId4" Type="http://schemas.openxmlformats.org/officeDocument/2006/relationships/hyperlink" Target="http://images.google.com/imgres?imgurl=http://www.vivisect.org/choke/choke_full.gif&amp;imgrefurl=http://www.wnff.net/index.php?topic=4902.300&amp;usg=__C7t2rO7WvMCAsxewAbQ4de-MtxY=&amp;h=528&amp;w=594&amp;sz=16&amp;hl=en&amp;start=3&amp;tbnid=uctm0wwc_4otjM:&amp;tbnh=120&amp;tbnw=135&amp;prev=/images?q=choke&amp;gbv=2&amp;hl=en" TargetMode="External"/><Relationship Id="rId5" Type="http://schemas.openxmlformats.org/officeDocument/2006/relationships/image" Target="../media/image41.jpeg"/><Relationship Id="rId6" Type="http://schemas.openxmlformats.org/officeDocument/2006/relationships/hyperlink" Target="http://images.google.com/imgres?imgurl=http://idiotsforobama.com/blog/wp-content/uploads/2008/10/brokechick.jpg&amp;imgrefurl=http://idiotsforobama.com/blog/category/illegal-immigration/&amp;usg=__EvjI3YW-uKTY26i4lrPn5ZoWvzM=&amp;h=353&amp;w=300&amp;sz=21&amp;hl=en&amp;start=1&amp;tbnid=brnwK9zmXHIfBM:&amp;tbnh=121&amp;tbnw=103&amp;prev=/images?q=broke&amp;gbv=2&amp;hl=en" TargetMode="External"/><Relationship Id="rId7" Type="http://schemas.openxmlformats.org/officeDocument/2006/relationships/image" Target="../media/image42.jpeg"/><Relationship Id="rId8" Type="http://schemas.openxmlformats.org/officeDocument/2006/relationships/hyperlink" Target="http://images.google.com/imgres?imgurl=http://www.mulliganstewboutique.com/images/jedi_cloke_029b.jpg&amp;imgrefurl=http://www.mulliganstewboutique.com/&amp;usg=__v7Qlg3vGQ2QmzdS8Th6ChoN1Xx4=&amp;h=809&amp;w=798&amp;sz=165&amp;hl=en&amp;start=11&amp;tbnid=8h5QssUao4fFMM:&amp;tbnh=143&amp;tbnw=141&amp;prev=/images?q=cloke&amp;gbv=2&amp;hl=en" TargetMode="External"/><Relationship Id="rId9" Type="http://schemas.openxmlformats.org/officeDocument/2006/relationships/image" Target="../media/image43.jpeg"/><Relationship Id="rId10" Type="http://schemas.openxmlformats.org/officeDocument/2006/relationships/hyperlink" Target="http://images.google.com/imgres?imgurl=http://www.freefoto.com/images/13/08/13_08_1---Chimney-Steam-Smoke_web.jpg&amp;imgrefurl=http://www.freefoto.com/preview/13-08-1?ffid=13-08-1&amp;usg=__AeDZTiKrfoGSNWlDPDLEyc0GIDU=&amp;h=400&amp;w=600&amp;sz=46&amp;hl=en&amp;start=16&amp;tbnid=2m9yJMy88sqXPM:&amp;tbnh=90&amp;tbnw=135&amp;prev=/images?q=smoke&amp;gbv=2&amp;hl=en" TargetMode="External"/><Relationship Id="rId11" Type="http://schemas.openxmlformats.org/officeDocument/2006/relationships/image" Target="../media/image44.jpeg"/><Relationship Id="rId12" Type="http://schemas.openxmlformats.org/officeDocument/2006/relationships/hyperlink" Target="http://images.google.com/imgres?imgurl=http://upload.wikimedia.org/wikipedia/commons/f/f1/Spoke_dynamo_detail.jpg&amp;imgrefurl=http://commons.wikimedia.org/wiki/File:Spoke_dynamo_detail.jpg&amp;usg=__kWSC2at5c5wVRmqe0efrfARqG7I=&amp;h=1944&amp;w=2592&amp;sz=2352&amp;hl=en&amp;start=4&amp;tbnid=lGTKRJRrv-F0qM:&amp;tbnh=113&amp;tbnw=150&amp;prev=/images?q=spoke&amp;gbv=2&amp;hl=en" TargetMode="External"/><Relationship Id="rId13" Type="http://schemas.openxmlformats.org/officeDocument/2006/relationships/image" Target="../media/image45.jpeg"/><Relationship Id="rId14" Type="http://schemas.openxmlformats.org/officeDocument/2006/relationships/hyperlink" Target="http://images.google.com/imgres?imgurl=http://k43.pbase.com/u7/jakemmens/upload/22201312.PerthtoBroomeStokethefireJacandgettheBillyboiling.jpg&amp;imgrefurl=http://www.pbase.com/jakemmens/image/22201312&amp;usg=__zurKRRf2xehoY-yX1XbyWasQ_9A=&amp;h=480&amp;w=640&amp;sz=70&amp;hl=en&amp;start=18&amp;tbnid=OdQfhYhmYrjNnM:&amp;tbnh=103&amp;tbnw=137&amp;prev=/images?q=stoke+a+fire&amp;gbv=2&amp;hl=en" TargetMode="External"/><Relationship Id="rId15" Type="http://schemas.openxmlformats.org/officeDocument/2006/relationships/image" Target="../media/image46.jpeg"/><Relationship Id="rId16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freedictionary.com/" TargetMode="External"/><Relationship Id="rId3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angelsattic.org/images/dump_large.jpg&amp;imgrefurl=http://www.angelsattic.org/cambodia.htm&amp;usg=__xQ9tsEcZ-jJdj7tfytBJyXi6yK4=&amp;h=600&amp;w=947&amp;sz=615&amp;hl=EN&amp;start=7&amp;tbnid=wAPrUtCOM_fJKM:&amp;tbnh=94&amp;tbnw=148&amp;prev=/images?q=DUMP&amp;gbv=2&amp;hl=EN" TargetMode="External"/><Relationship Id="rId3" Type="http://schemas.openxmlformats.org/officeDocument/2006/relationships/image" Target="../media/image47.jpeg"/><Relationship Id="rId4" Type="http://schemas.openxmlformats.org/officeDocument/2006/relationships/hyperlink" Target="http://images.google.com/imgres?imgurl=http://static.howstuffworks.com/gif/camel-go-without-water-2.jpg&amp;imgrefurl=http://animals.howstuffworks.com/mammals/camel-go-without-water1.htm&amp;usg=__GFmOyWmBChmgaWsaiP0WwP_Rzyo=&amp;h=300&amp;w=400&amp;sz=26&amp;hl=EN&amp;start=39&amp;tbnid=34H9MmRLpYricM:&amp;tbnh=93&amp;tbnw=124&amp;prev=/images?q=camel+hump&amp;gbv=2&amp;ndsp=20&amp;hl=EN&amp;sa=N&amp;start=20" TargetMode="External"/><Relationship Id="rId5" Type="http://schemas.openxmlformats.org/officeDocument/2006/relationships/image" Target="../media/image48.jpeg"/><Relationship Id="rId6" Type="http://schemas.openxmlformats.org/officeDocument/2006/relationships/hyperlink" Target="http://images.google.com/imgres?imgurl=http://podiatry.files.wordpress.com/2006/12/patient2.jpg&amp;imgrefurl=http://www.sashafans.com/forum/showthread.php?t=20336&amp;usg=__a3q65P6tii393L3BmuGJsUcyorc=&amp;h=595&amp;w=768&amp;sz=55&amp;hl=EN&amp;start=18&amp;tbnid=QVF06-0kXJ-FAM:&amp;tbnh=110&amp;tbnw=142&amp;prev=/images?q=lump&amp;gbv=2&amp;hl=EN" TargetMode="External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image" Target="../media/image52.jpeg"/><Relationship Id="rId11" Type="http://schemas.openxmlformats.org/officeDocument/2006/relationships/image" Target="../media/image53.jpeg"/><Relationship Id="rId12" Type="http://schemas.openxmlformats.org/officeDocument/2006/relationships/image" Target="../media/image54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line-stopwatch.com/large-stopwatch/" TargetMode="Externa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freedictionary.com/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femmesfatales.typepad.com/.a/6a00d8341cfbd053ef011278f8309e28a4-800wi&amp;imgrefurl=http://femmesfatales.typepad.com/.a/6a00d8341cfbd053ef011278f8309e28a4-popup&amp;usg=__LqfiPSPkKvfGE8kMxAGBFrcmSWU=&amp;h=600&amp;w=400&amp;sz=34&amp;hl=en&amp;start=4&amp;tbnid=hA6B5S5eVtR8YM:&amp;tbnh=135&amp;tbnw=90&amp;prev=/images?q=dice&amp;gbv=2&amp;hl=en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ages.google.com/imgres?imgurl=http://www.dogbreedinfo.com/images19/MiceAdorableSiamese2.JPG&amp;imgrefurl=http://www.dogbreedinfo.com/pets/mice.htm&amp;usg=__1ecWKz1cFxagkDgXaUejosHzHoM=&amp;h=300&amp;w=400&amp;sz=28&amp;hl=en&amp;start=2&amp;tbnid=tuqlvF-oLIthdM:&amp;tbnh=93&amp;tbnw=124&amp;prev=/images?q=mice&amp;gbv=2&amp;hl=en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images.google.com/imgres?imgurl=http://keetsa.com/blog/wp-content/uploads/2007/10/rice.jpg&amp;imgrefurl=http://www.squidoo.com/mixedricerecipes&amp;usg=__QZG2pAbDSmdRRARyt3sNe9b0c0M=&amp;h=330&amp;w=440&amp;sz=59&amp;hl=en&amp;start=1&amp;tbnid=_qrS8ETPjtfnQM:&amp;tbnh=95&amp;tbnw=127&amp;prev=/images?q=rice&amp;gbv=2&amp;hl=en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images.google.com/imgres?imgurl=http://justinspaintings.com/images/p167_WatermelonSlice.jpg&amp;imgrefurl=http://justinspaintings.com/painting0167.html&amp;usg=__ORr_LsQ9GdKe6UqGB1ZQr5aFXHg=&amp;h=385&amp;w=384&amp;sz=29&amp;hl=en&amp;start=6&amp;tbnid=Gmy_5YfP90jUDM:&amp;tbnh=123&amp;tbnw=123&amp;prev=/images?q=slice&amp;gbv=2&amp;hl=en" TargetMode="External"/><Relationship Id="rId9" Type="http://schemas.openxmlformats.org/officeDocument/2006/relationships/image" Target="../media/image9.jpeg"/><Relationship Id="rId10" Type="http://schemas.openxmlformats.org/officeDocument/2006/relationships/hyperlink" Target="http://images.google.com/imgres?imgurl=http://www.espicebazar.com/images/three_tier_wood_spice_rack.jpg&amp;imgrefurl=http://www.espicebazar.com/three_tier_wood_rack.aspx&amp;usg=__Lpypglh7DoZkIA8wPivhqJ1krHQ=&amp;h=480&amp;w=375&amp;sz=50&amp;hl=en&amp;start=175&amp;tbnid=LjVstt7gCyOWQM:&amp;tbnh=129&amp;tbnw=101&amp;prev=/images?q=spice&amp;gbv=2&amp;ndsp=20&amp;hl=en&amp;sa=N&amp;start=160" TargetMode="External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freedictionary.com/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i.ehow.com/images/GlobalPhoto/Articles/2274096/hide-main_Full.jpg&amp;imgrefurl=http://www.ehow.com/how_4835129_use-print-screen-function-mac.html&amp;usg=__xmzze2No9BkGuvgJBAjS1UusO8w=&amp;h=300&amp;w=450&amp;sz=26&amp;hl=en&amp;start=3&amp;tbnid=PreVE89YILxFQM:&amp;tbnh=85&amp;tbnw=127&amp;prev=/images?q=hide&amp;gbv=2&amp;hl=en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ages.google.com/imgres?imgurl=http://www.wildnatureimages.com/S%2520to%2520Z/SURFING_BOAR_TIDE.JPG&amp;imgrefurl=http://www.wildnatureimages.com/Surfing%2520Boar%2520Tide.htm&amp;usg=__8AKHJnCv9pQsSBp5GuT9u8qoydY=&amp;h=600&amp;w=393&amp;sz=73&amp;hl=en&amp;start=5&amp;tbnid=3jKGWC0jMCZEbM:&amp;tbnh=135&amp;tbnw=88&amp;prev=/images?q=tide&amp;gbv=2&amp;hl=en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images.google.com/imgres?imgurl=http://www.bellanaija.com/wp-content/uploads/2009/03/bride-wars_l.jpg&amp;imgrefurl=http://www.bellanaija.com/2009/03/26/bn-edits-11-most-iconic-wedding-dresses-in-film-and-tv/&amp;usg=__NebbDOthA40t25cPfc27NU6L450=&amp;h=400&amp;w=400&amp;sz=41&amp;hl=en&amp;start=9&amp;tbnid=Bjy4iQuf6YZdrM:&amp;tbnh=124&amp;tbnw=124&amp;prev=/images?q=bride&amp;gbv=2&amp;hl=en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images.google.com/imgres?imgurl=http://www.warrenwindsports.com.au/files/photos/hang-glide-dee-kramer-fly.jpg&amp;imgrefurl=http://www.mybucketlist.ws/?p=166&amp;usg=__9hNJfYa1ZK2ktQy2UweMbkld13o=&amp;h=301&amp;w=450&amp;sz=20&amp;hl=en&amp;start=3&amp;tbnid=Vv9_qaDmXf_VTM:&amp;tbnh=85&amp;tbnw=127&amp;prev=/images?q=glide&amp;gbv=2&amp;hl=en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images.google.com/imgres?imgurl=http://www.sports-b2b.com/b2b/pics/Kids_Slide.jpg&amp;imgrefurl=http://www.sports-b2b.com/b2b/sportswear/1/&amp;usg=__uZwEFoqVgSJzxPhYfN8GC8uSAdU=&amp;h=448&amp;w=608&amp;sz=41&amp;hl=en&amp;start=32&amp;tbnid=E3GcQprxAqkWaM:&amp;tbnh=100&amp;tbnw=136&amp;prev=/images?q=slide&amp;gbv=2&amp;ndsp=20&amp;hl=en&amp;sa=N&amp;start=20" TargetMode="External"/><Relationship Id="rId11" Type="http://schemas.openxmlformats.org/officeDocument/2006/relationships/image" Target="../media/image15.jpeg"/><Relationship Id="rId12" Type="http://schemas.openxmlformats.org/officeDocument/2006/relationships/hyperlink" Target="http://images.google.com/imgres?imgurl=http://www.beyond-running.com/pho/stride.jpg&amp;imgrefurl=http://www.beyond-running.com/stride.php&amp;usg=__kd2KgrvZcrMAZpbxgY6fwy-um1U=&amp;h=350&amp;w=275&amp;sz=28&amp;hl=en&amp;start=11&amp;tbnid=P0WiRZ6wJy0lnM:&amp;tbnh=120&amp;tbnw=94&amp;prev=/images?q=stride&amp;gbv=2&amp;hl=en" TargetMode="External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cottsboro.org/~flewis/Class%20Tools/Turkey%20for%20Thanksgiving.htm" TargetMode="External"/><Relationship Id="rId3" Type="http://schemas.openxmlformats.org/officeDocument/2006/relationships/hyperlink" Target="http://scottsboro.org/~flewis/SF%20Reading%20Street/spellmaster/Turkey%20for%20Thanksgiving/jigword2.html" TargetMode="External"/><Relationship Id="rId4" Type="http://schemas.openxmlformats.org/officeDocument/2006/relationships/hyperlink" Target="http://scottsboro.org/~flewis/SF%20Reading%20Street/spellmaster/Turkey%20for%20Thanksgiving/matchword2.html" TargetMode="External"/><Relationship Id="rId5" Type="http://schemas.openxmlformats.org/officeDocument/2006/relationships/hyperlink" Target="http://scottsboro.org/~flewis/SF%20Reading%20Street/spellmaster/Turkey%20for%20Thanksgiving/speedword2.html" TargetMode="External"/><Relationship Id="rId6" Type="http://schemas.openxmlformats.org/officeDocument/2006/relationships/hyperlink" Target="http://scottsboro.org/~flewis/SF%20Reading%20Street/spellmaster/Turkey%20for%20Thanksgiving/wordsearch2.html" TargetMode="External"/><Relationship Id="rId7" Type="http://schemas.openxmlformats.org/officeDocument/2006/relationships/hyperlink" Target="http://scottsboro.org/~flewis/SF%20Reading%20Street/spellmaster/Turkey%20for%20Thanksgiving/wordweb.html" TargetMode="External"/><Relationship Id="rId8" Type="http://schemas.openxmlformats.org/officeDocument/2006/relationships/hyperlink" Target="http://www.spellingcity.com/index.php?option=com_spellcity&amp;task=viewList&amp;listId=825941" TargetMode="External"/><Relationship Id="rId9" Type="http://schemas.openxmlformats.org/officeDocument/2006/relationships/hyperlink" Target="http://www.spellingcity.com/index.php?option=com_spellcity&amp;task=viewList&amp;listId=825946" TargetMode="External"/><Relationship Id="rId10" Type="http://schemas.openxmlformats.org/officeDocument/2006/relationships/hyperlink" Target="http://scottsboro.org/~flewis/SF%20Reading%20Street/spellmaster/Turkey%20for%20Thanksgiving%20Spelling/speedword2.html" TargetMode="External"/><Relationship Id="rId11" Type="http://schemas.openxmlformats.org/officeDocument/2006/relationships/hyperlink" Target="http://scottsboro.org/~flewis/SF%20Reading%20Street/spellmaster/Turkey%20for%20Thanksgiving%20Spelling/wordweb.html" TargetMode="External"/><Relationship Id="rId12" Type="http://schemas.openxmlformats.org/officeDocument/2006/relationships/hyperlink" Target="http://www.quia.com/jg/1111097.html" TargetMode="External"/><Relationship Id="rId13" Type="http://schemas.openxmlformats.org/officeDocument/2006/relationships/hyperlink" Target="http://www.spellingcity.com/index.php?option=com_spellcity&amp;Itemid=122&amp;task=viewList&amp;listId=354230" TargetMode="External"/><Relationship Id="rId14" Type="http://schemas.openxmlformats.org/officeDocument/2006/relationships/hyperlink" Target="http://scottsboro.org/~flewis/SF%20Reading%20Street/Hot%20Potatoes/Turkey_for_Thanksgiving.htm" TargetMode="External"/><Relationship Id="rId15" Type="http://schemas.openxmlformats.org/officeDocument/2006/relationships/hyperlink" Target="http://www.spellingcity.com/index.php?option=com_spellcity&amp;task=viewList&amp;listId=825956" TargetMode="External"/><Relationship Id="rId16" Type="http://schemas.openxmlformats.org/officeDocument/2006/relationships/hyperlink" Target="http://www.spellingcity.com/index.php?option=com_spellcity&amp;task=viewList&amp;listId=825956" TargetMode="External"/><Relationship Id="rId1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freedictionary.com/" TargetMode="Externa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andersonmilitaria.com/images/misc/indian/HorseBit.jpg&amp;imgrefurl=http://www.andersonmilitaria.com/Web_Pages/misc/indian/indian.htm&amp;usg=__ziIDpJIvbIlCARyQrmrdnVSk31k=&amp;h=345&amp;w=493&amp;sz=33&amp;hl=en&amp;start=2&amp;tbnid=mUu240jXeQofdM:&amp;tbnh=91&amp;tbnw=130&amp;prev=/images?q=horse++bit&amp;gbv=2&amp;hl=en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s.google.com/imgres?imgurl=http://www.brutalsunstudio.com/art6.jpg&amp;imgrefurl=http://www.brutalsunstudio.com/art.htm&amp;usg=__W3K5Q7hkxLwy2v28A3NRxMH4DZU=&amp;h=478&amp;w=550&amp;sz=57&amp;hl=en&amp;start=4&amp;tbnid=jmrqaIMulLRymM:&amp;tbnh=116&amp;tbnw=133&amp;prev=/images?q=horse++bit&amp;gbv=2&amp;hl=en" TargetMode="External"/><Relationship Id="rId5" Type="http://schemas.openxmlformats.org/officeDocument/2006/relationships/image" Target="../media/image21.jpeg"/><Relationship Id="rId6" Type="http://schemas.openxmlformats.org/officeDocument/2006/relationships/hyperlink" Target="http://images.google.com/imgres?imgurl=http://www.health.state.ny.us/environmental/emergency/images/first_aid_kit_480x360.jpg&amp;imgrefurl=http://www.health.state.ny.us/environmental/emergency/first_aid_kit.htm&amp;usg=__evSttC07fUyjxdah-ZiUZ-rDIWs=&amp;h=360&amp;w=480&amp;sz=70&amp;hl=en&amp;start=1&amp;tbnid=bf9lSB2zFEkATM:&amp;tbnh=97&amp;tbnw=129&amp;prev=/images?q=kit&amp;gbv=2&amp;hl=en" TargetMode="External"/><Relationship Id="rId7" Type="http://schemas.openxmlformats.org/officeDocument/2006/relationships/image" Target="../media/image22.jpeg"/><Relationship Id="rId8" Type="http://schemas.openxmlformats.org/officeDocument/2006/relationships/hyperlink" Target="http://images.google.com/imgres?imgurl=http://www.precisionbaseballone.com/images/mit.gif&amp;imgrefurl=http://www.precisionbaseballone.com/&amp;usg=__VtbzXBW0mirLyezOUw1ILpFfsRo=&amp;h=225&amp;w=270&amp;sz=37&amp;hl=en&amp;start=3&amp;tbnid=9wnm3pwpJW-pkM:&amp;tbnh=94&amp;tbnw=113&amp;prev=/images?q=baseball+mit&amp;gbv=2&amp;hl=en" TargetMode="External"/><Relationship Id="rId9" Type="http://schemas.openxmlformats.org/officeDocument/2006/relationships/image" Target="../media/image23.jpeg"/><Relationship Id="rId10" Type="http://schemas.openxmlformats.org/officeDocument/2006/relationships/hyperlink" Target="http://images.google.com/imgres?imgurl=http://z.about.com/d/pediatrics/1/0/x/3/nits_expl.gif&amp;imgrefurl=http://pediatrics.about.com/od/headlice/ig/Head-Lice-Pictures/Head-Lice-Nits-Picture.--07.htm&amp;usg=__t5bJ4sOHFlJB18JnKDIQMvREKNQ=&amp;h=400&amp;w=400&amp;sz=67&amp;hl=en&amp;start=8&amp;tbnid=i9p0AK79RxIXNM:&amp;tbnh=124&amp;tbnw=124&amp;prev=/images?q=nit&amp;gbv=2&amp;hl=en" TargetMode="External"/><Relationship Id="rId11" Type="http://schemas.openxmlformats.org/officeDocument/2006/relationships/image" Target="../media/image24.jpeg"/><Relationship Id="rId12" Type="http://schemas.openxmlformats.org/officeDocument/2006/relationships/hyperlink" Target="http://images.google.com/imgres?imgurl=http://medent.usyd.edu.au/photos/nit.jpg&amp;imgrefurl=http://medent.usyd.edu.au/photos/lice__bedbug_photos.htm&amp;usg=__6Xz-m6LmdrELbezwhY_htTUscbk=&amp;h=321&amp;w=289&amp;sz=23&amp;hl=en&amp;start=9&amp;tbnid=M2_JpZSZUWI-MM:&amp;tbnh=118&amp;tbnw=106&amp;prev=/images?q=nit&amp;gbv=2&amp;hl=en" TargetMode="External"/><Relationship Id="rId13" Type="http://schemas.openxmlformats.org/officeDocument/2006/relationships/image" Target="../media/image25.jpeg"/><Relationship Id="rId14" Type="http://schemas.openxmlformats.org/officeDocument/2006/relationships/hyperlink" Target="http://images.google.com/imgres?imgurl=http://monsterguide.net/images/how-to-build-a-fire-pit.jpg&amp;imgrefurl=http://monsterguide.net/how-to-build-a-fire-pit&amp;usg=__NqFGXAE-f2JX30Ga-TIVSW9KKvw=&amp;h=300&amp;w=327&amp;sz=42&amp;hl=en&amp;start=16&amp;tbnid=wPeVfQMzx0-Q9M:&amp;tbnh=108&amp;tbnw=118&amp;prev=/images?q=pit&amp;gbv=2&amp;hl=en" TargetMode="External"/><Relationship Id="rId15" Type="http://schemas.openxmlformats.org/officeDocument/2006/relationships/image" Target="../media/image26.jpeg"/><Relationship Id="rId16" Type="http://schemas.openxmlformats.org/officeDocument/2006/relationships/hyperlink" Target="http://images.google.com/imgres?imgurl=http://2.bp.blogspot.com/_v5HQSW-LL0g/SAfOfBmUhbI/AAAAAAAAA8E/5yyJwR8C8mg/s400/zit.jpg&amp;imgrefurl=http://britunes.blogspot.com/2009/03/weekend-recap.html&amp;usg=__vlsENIE9y5M9PXUdZaOPUmoxi34=&amp;h=300&amp;w=300&amp;sz=26&amp;hl=en&amp;start=4&amp;tbnid=-DkPVAnH3oghIM:&amp;tbnh=116&amp;tbnw=116&amp;prev=/images?q=zit&amp;gbv=2&amp;hl=en" TargetMode="External"/><Relationship Id="rId17" Type="http://schemas.openxmlformats.org/officeDocument/2006/relationships/image" Target="../media/image27.jpeg"/><Relationship Id="rId18" Type="http://schemas.openxmlformats.org/officeDocument/2006/relationships/hyperlink" Target="http://images.google.com/imgres?imgurl=http://www.stitchdiva.com/images/tutorials/knit/knit3.jpg&amp;imgrefurl=http://www.stitchdiva.com/custom.aspx?id=102&amp;usg=__0Z4VkXWbzUwWVPPMyhJCkY8qxOE=&amp;h=289&amp;w=350&amp;sz=26&amp;hl=en&amp;start=9&amp;tbnid=eayLyvrCanBj1M:&amp;tbnh=99&amp;tbnw=120&amp;prev=/images?q=knit&amp;gbv=2&amp;hl=en" TargetMode="External"/><Relationship Id="rId19" Type="http://schemas.openxmlformats.org/officeDocument/2006/relationships/image" Target="../media/image28.jpeg"/><Relationship Id="rId20" Type="http://schemas.openxmlformats.org/officeDocument/2006/relationships/hyperlink" Target="http://images.google.com/imgres?imgurl=http://img.photobucket.com/albums/v383/bethvigil/FallGiftLineSkit.jpg&amp;imgrefurl=http://watkins-business.spaces.live.com/&amp;usg=__axvquyIseAzFMjsFP7el7cXkcZE=&amp;h=480&amp;w=640&amp;sz=109&amp;hl=en&amp;start=15&amp;tbnid=PC25BJ-Bi2iQwM:&amp;tbnh=103&amp;tbnw=137&amp;prev=/images?q=skit&amp;gbv=2&amp;hl=en" TargetMode="External"/><Relationship Id="rId21" Type="http://schemas.openxmlformats.org/officeDocument/2006/relationships/image" Target="../media/image29.jpeg"/><Relationship Id="rId22" Type="http://schemas.openxmlformats.org/officeDocument/2006/relationships/hyperlink" Target="http://images.google.com/imgres?imgurl=http://www.giftag.com/clip/jack-larry/halter-evening-gown-with-thigh-high-front-slit-clothing-prom-dresses-zaphoncom-clip.jpg&amp;imgrefurl=http://www.giftag.com/jack-larry/items/halter-evening-gown-with-thigh-high-front-slit-clothing-prom-dresses-zaphoncom/&amp;usg=__slBniOaJ_ugbFvzR3QFWiOerBNk=&amp;h=479&amp;w=285&amp;sz=12&amp;hl=en&amp;start=83&amp;tbnid=d78h51XK_Jr-CM:&amp;tbnh=129&amp;tbnw=77&amp;prev=/images?q=slit&amp;gbv=2&amp;ndsp=20&amp;hl=en&amp;sa=N&amp;start=80" TargetMode="External"/><Relationship Id="rId23" Type="http://schemas.openxmlformats.org/officeDocument/2006/relationships/image" Target="../media/image30.jpeg"/><Relationship Id="rId24" Type="http://schemas.openxmlformats.org/officeDocument/2006/relationships/hyperlink" Target="http://images.google.com/imgres?imgurl=http://www.csupomona.edu/~meatlab/images/PigSpit.jpg&amp;imgrefurl=http://www.csupomona.edu/~meatlab/CustomCuts.htm&amp;usg=__pff8N7Rgg89AHx-fdSeS3_-1xhw=&amp;h=1024&amp;w=1280&amp;sz=884&amp;hl=en&amp;start=35&amp;tbnid=q-yfnqqKxxBY6M:&amp;tbnh=120&amp;tbnw=150&amp;prev=/images?q=spit&amp;gbv=2&amp;ndsp=20&amp;hl=en&amp;sa=N&amp;start=20" TargetMode="External"/><Relationship Id="rId25" Type="http://schemas.openxmlformats.org/officeDocument/2006/relationships/image" Target="../media/image31.jpeg"/><Relationship Id="rId26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42.xml"/><Relationship Id="rId4" Type="http://schemas.openxmlformats.org/officeDocument/2006/relationships/slide" Target="slide88.xml"/><Relationship Id="rId5" Type="http://schemas.openxmlformats.org/officeDocument/2006/relationships/slide" Target="slide131.xml"/><Relationship Id="rId6" Type="http://schemas.openxmlformats.org/officeDocument/2006/relationships/slide" Target="slide156.xml"/><Relationship Id="rId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8.xml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hyperlink" Target="http://images.google.com/imgres?imgurl=http://greenlanternpress.files.wordpress.com/2008/11/thanksgiving.png&amp;imgrefurl=http://greenlanternpress.wordpress.com/2008/11/&amp;usg=__-_AtI4XqTSvTtU0o6yTsc-oQVV8=&amp;h=320&amp;w=380&amp;sz=267&amp;hl=EN&amp;start=6&amp;tbnid=nq32GjLlshnpSM:&amp;tbnh=104&amp;tbnw=123&amp;prev=/images?q=thanksgiving&amp;gbv=2&amp;hl=EN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google.com/imgres?imgurl=http://www.momtomom.org/uploaded_images/Thanksgiving-703525.gif&amp;imgrefurl=http://www.clubisrael.org/rfts/?tag=thanksgiving&amp;usg=__-GndRQeCuTFMUu4LzUBzBjW91VA=&amp;h=735&amp;w=821&amp;sz=273&amp;hl=EN&amp;start=3&amp;tbnid=MEgJRGUGbp8zlM:&amp;tbnh=129&amp;tbnw=144&amp;prev=/images?q=thanksgiving&amp;gbv=2&amp;hl=EN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google.com/imgres?imgurl=http://xrlq.com/Images/HappyThanksgiving.jpg&amp;imgrefurl=http://xrlq.com/2003/11/&amp;usg=__azFTcBLsAZ7qSGN48ThDZkOLjlo=&amp;h=650&amp;w=470&amp;sz=86&amp;hl=EN&amp;start=25&amp;tbnid=ybdDljs_AqyysM:&amp;tbnh=137&amp;tbnw=99&amp;prev=/images?q=thanksgiving&amp;gbv=2&amp;ndsp=20&amp;hl=EN&amp;sa=N&amp;start=20" TargetMode="External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hyperlink" Target="http://images.google.com/imgres?imgurl=http://www.falabella.co.uk/hooves.jpg&amp;imgrefurl=http://www.falabella.co.uk/husbandry.html&amp;usg=__vpHtgppeheWM0KeGd4BNJjqaYIw=&amp;h=461&amp;w=477&amp;sz=101&amp;hl=EN&amp;start=3&amp;tbnid=zIdYPqWB52TXXM:&amp;tbnh=125&amp;tbnw=129&amp;prev=/images?q=hooves&amp;gbv=2&amp;hl=EN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ages.google.com/imgres?imgurl=http://www.mackinawdells2.com/mustang%2520hooves%2520JJ%2520006.jpg&amp;imgrefurl=http://www.mackinawdells2.com/barefoot%2520page.htm&amp;usg=___QCUWd5LTHMKyrE5-s7BG3ZVCZo=&amp;h=600&amp;w=800&amp;sz=158&amp;hl=EN&amp;start=4&amp;tbnid=XgcpCNt0pRsIYM:&amp;tbnh=107&amp;tbnw=143&amp;prev=/images?q=hooves&amp;gbv=2&amp;hl=EN" TargetMode="External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hyperlink" Target="http://images.google.com/imgres?imgurl=http://www.riverbanktearooms.co.uk/Riverbank_view.jpg&amp;imgrefurl=http://www.riverbanktearooms.co.uk/&amp;usg=__UkrKVjBQg-4uirM6oV60o2HmQq4=&amp;h=281&amp;w=375&amp;sz=46&amp;hl=EN&amp;start=2&amp;tbnid=y0-Zw4aUvIFpmM:&amp;tbnh=91&amp;tbnw=122&amp;prev=/images?q=riverbank&amp;gbv=2&amp;hl=EN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images.google.com/imgres?imgurl=http://www.jimwegryn.com/Photos/River%2520bank.jpg&amp;imgrefurl=http://wonderlandthatneverwas.blogspot.com/2008/09/tagged-by-reena.html&amp;usg=__GEfB_QHlpZki-6YNaiqHYeXMAyQ=&amp;h=770&amp;w=960&amp;sz=284&amp;hl=EN&amp;start=3&amp;tbnid=K2QMpXSf-UerGM:&amp;tbnh=119&amp;tbnw=148&amp;prev=/images?q=riverbank&amp;gbv=2&amp;hl=EN" TargetMode="External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6160" y="0"/>
            <a:ext cx="863748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ow can we contribut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 to a celebration?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lick to listen to story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1" name="Picture 15" descr="Turkey for Thanksgivi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11600" y="1981080"/>
            <a:ext cx="361476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mazing Word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Drawing conclusio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02880" y="3049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28600" y="1828800"/>
          <a:ext cx="8610480" cy="46814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28600" y="1828800"/>
          <a:ext cx="8610480" cy="46814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28600" y="1828800"/>
          <a:ext cx="8610480" cy="48290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n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” said Mom as she walked through the _____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”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“If you peek, you’ll be ____!”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”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“If you peek, you’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”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’t worry, Mom.  I ____ not to peek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”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“If you peek, you’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”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’t worry, Mom.  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romis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not to peek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m was gone for only a minute.  Then she came back into the ro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he held something ____ her bac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”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“If you peek, you’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”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’t worry, Mom.  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romis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not to peek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m was gone for only a minute.  Then she came back into the ro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he held something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ehind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her bac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____ you something from the pet store,” said M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din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en you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, you eat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e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d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n a huge turkey on Thanksgiving Da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e will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n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n hot dogs and potato salad at the picnic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”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“If you peek, you’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”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’t worry, Mom.  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romis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not to peek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m was gone for only a minute.  Then she came back into the ro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he held something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ehind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her bac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rough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you something from the pet store,” said M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a opened her eyes.  “A new puppy!” she squealed.  “Let’s go show ____!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everybody, brought, behind, promise, sorry, minute, do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have a surprise for you!” said Mom as she walked through th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doo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ose your eyes.  “If you peek, you’ll be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orr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” she jok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n’t worry, Mom.  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romis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not to peek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m was gone for only a minute.  Then she came back into the ro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he held something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ehind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her bac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rough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you something from the pet store,” said M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a opened her eyes.  “A new puppy!” she squealed.  “Let’s go show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everybod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joke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905120" y="2133720"/>
          <a:ext cx="6359400" cy="4111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jok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3" name="Picture 2" descr="http://tbn0.google.com/images?q=tbn:ImpEOa8s7bolxM:http://www.bsideblog.com/images/2008/01/pok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2057400"/>
            <a:ext cx="1824120" cy="13716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tbn2.google.com/images?q=tbn:uctm0wwc_4otjM:http://www.vivisect.org/choke/choke_full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71800" y="2133720"/>
            <a:ext cx="1457280" cy="1295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http://tbn0.google.com/images?q=tbn:brnwK9zmXHIfBM:http://idiotsforobama.com/blog/wp-content/uploads/2008/10/brokechick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76920" y="2057400"/>
            <a:ext cx="1166760" cy="1371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http://tbn0.google.com/images?q=tbn:8h5QssUao4fFMM:http://www.mulliganstewboutique.com/images/jedi_cloke_029b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553080" y="2057400"/>
            <a:ext cx="1343160" cy="1362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http://tbn2.google.com/images?q=tbn:2m9yJMy88sqXPM:http://www.freefoto.com/images/13/08/13_08_1---Chimney-Steam-Smoke_web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4267080"/>
            <a:ext cx="1942920" cy="1295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" descr="http://tbn2.google.com/images?q=tbn:lGTKRJRrv-F0qM:http://upload.wikimedia.org/wikipedia/commons/f/f1/Spoke_dynamo_detail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886200" y="4267080"/>
            <a:ext cx="1719360" cy="1295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4" descr="http://tbn3.google.com/images?q=tbn:OdQfhYhmYrjNnM:http://k43.pbase.com/u7/jakemmens/upload/22201312.PerthtoBroomeStokethefireJacandgettheBillyboiling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324480" y="4191120"/>
            <a:ext cx="1824120" cy="137160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1"/>
          <p:cNvSpPr/>
          <p:nvPr/>
        </p:nvSpPr>
        <p:spPr>
          <a:xfrm>
            <a:off x="1110600" y="3429000"/>
            <a:ext cx="8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Box 12"/>
          <p:cNvSpPr/>
          <p:nvPr/>
        </p:nvSpPr>
        <p:spPr>
          <a:xfrm>
            <a:off x="3253680" y="342900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4997520" y="34290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14"/>
          <p:cNvSpPr/>
          <p:nvPr/>
        </p:nvSpPr>
        <p:spPr>
          <a:xfrm>
            <a:off x="6813000" y="34290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5"/>
          <p:cNvSpPr/>
          <p:nvPr/>
        </p:nvSpPr>
        <p:spPr>
          <a:xfrm>
            <a:off x="1657440" y="5562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16"/>
          <p:cNvSpPr/>
          <p:nvPr/>
        </p:nvSpPr>
        <p:spPr>
          <a:xfrm>
            <a:off x="4328640" y="556272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Box 17"/>
          <p:cNvSpPr/>
          <p:nvPr/>
        </p:nvSpPr>
        <p:spPr>
          <a:xfrm>
            <a:off x="6757200" y="556272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Vocabulary: Simi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story used descriptive writing to help readers picture different characters and scen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ne type of descriptive writing in the story is the use of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imile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or comparisons between two unlike things using the words </a:t>
            </a:r>
            <a:r>
              <a:rPr b="1" i="1" lang="en-US" sz="3200" spc="-1" strike="noStrike">
                <a:solidFill>
                  <a:srgbClr val="cc3300"/>
                </a:solidFill>
                <a:latin typeface="Trebuchet MS"/>
              </a:rPr>
              <a:t>lik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i="1" lang="en-US" sz="3200" spc="-1" strike="noStrike">
                <a:solidFill>
                  <a:srgbClr val="cc3300"/>
                </a:solidFill>
                <a:latin typeface="Trebuchet MS"/>
              </a:rPr>
              <a:t>a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Vocabulary: Simi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r. Moose’s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smil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was as bright as the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sun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Turke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cried like a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bab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Sheep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was farther up the hillside, looking round as a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fur ball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 his winter coa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 them a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crow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hung, black as a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puff of wood smok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192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e cat find the sop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cat found the soap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sh’es a smat ca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She’s a smart ca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 show ownership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ike of one gir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one girl’s bik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ooks of two boy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two boys’ boo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raw Conclus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ad Silently with Fluenc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Talk About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omorrow we will listen to a story about a boy whose friends contribute to his birthday celebratio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olid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 – i – day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ida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s a day when people celebrate something speci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anksgiving is a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ida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for people in the United States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4</a:t>
            </a:r>
            <a:r>
              <a:rPr b="1" lang="en-US" sz="3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f July is the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ida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when we celebrate the birth of our countr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 about a holiday celebration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 can read books when we want to learn something new.  What other ways can we learn about thing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 can read books when we want to learn something new.  What other ways can we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learn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about thing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ake Introductio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rebuchet MS"/>
              </a:rPr>
              <a:t>Read-Aloud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Trebuchet MS"/>
              </a:rPr>
              <a:t>The Blizzard 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Sentence Read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 was scared when I got lost in the park and forgot my way back to May’s quaint far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ach day I shall wait by the sign to watch the birds perch on the birdbath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oday I wait for the daily train with all the peopl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ne day I will probably be an artist or ride horse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uring the holidays I bought a purse, a shirt, and a darling skir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When the day is pleasant, I sit on the porch before dar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i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jump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828800" y="2286000"/>
          <a:ext cx="6359400" cy="4111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jump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8" name="Picture 2" descr="http://tbn3.google.com/images?q=tbn:wAPrUtCOM_fJKM:http://www.angelsattic.org/images/dump_larg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2133720"/>
            <a:ext cx="1800000" cy="1143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http://tbn1.google.com/images?q=tbn:34H9MmRLpYricM:http://static.howstuffworks.com/gif/camel-go-without-water-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19520" y="2133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http://tbn0.google.com/images?q=tbn:QVF06-0kXJ-FAM:http://podiatry.files.wordpress.com/2006/12/patient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52880" y="2209680"/>
            <a:ext cx="1352520" cy="1047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http://tbn0.google.com/images?q=tbn:NmS48ieJ60FDXM:http://media.agricharts.com/sites/14/images/Gas%2520Pump.jpg"/>
          <p:cNvPicPr/>
          <p:nvPr/>
        </p:nvPicPr>
        <p:blipFill>
          <a:blip r:embed="rId8"/>
          <a:stretch/>
        </p:blipFill>
        <p:spPr>
          <a:xfrm>
            <a:off x="685800" y="4191120"/>
            <a:ext cx="838080" cy="14284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0" descr="http://tbn3.google.com/images?q=tbn:BoajIMII-zidlM:http://chestofbooks.com/food/household/The-Profession-Of-Home-Making/images/Muscle-Arrangement-Of-Beef.jpg"/>
          <p:cNvPicPr/>
          <p:nvPr/>
        </p:nvPicPr>
        <p:blipFill>
          <a:blip r:embed="rId9"/>
          <a:stretch/>
        </p:blipFill>
        <p:spPr>
          <a:xfrm>
            <a:off x="2133720" y="4191120"/>
            <a:ext cx="2382840" cy="1447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2" descr="http://tbn2.google.com/images?q=tbn:0GBe0XAJpvRZTM:http://grow.ars-informatica.ca/images/Hemerocallis_clump_division.jpg"/>
          <p:cNvPicPr/>
          <p:nvPr/>
        </p:nvPicPr>
        <p:blipFill>
          <a:blip r:embed="rId10"/>
          <a:stretch/>
        </p:blipFill>
        <p:spPr>
          <a:xfrm>
            <a:off x="7010280" y="2133720"/>
            <a:ext cx="1247760" cy="1638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http://tbn0.google.com/images?q=tbn:ZzAU_p-b2mc3MM:http://www.charleshahn.com/gallery/images/Summer%2520Slump.jpg"/>
          <p:cNvPicPr/>
          <p:nvPr/>
        </p:nvPicPr>
        <p:blipFill>
          <a:blip r:embed="rId11"/>
          <a:stretch/>
        </p:blipFill>
        <p:spPr>
          <a:xfrm>
            <a:off x="5181480" y="4267080"/>
            <a:ext cx="1095480" cy="12384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6" descr="http://tbn1.google.com/images?q=tbn:H3XlviG8q4tx_M:http://farm1.static.flickr.com/201/492156148_f8a6a898f5.jpg"/>
          <p:cNvPicPr/>
          <p:nvPr/>
        </p:nvPicPr>
        <p:blipFill>
          <a:blip r:embed="rId12"/>
          <a:stretch/>
        </p:blipFill>
        <p:spPr>
          <a:xfrm>
            <a:off x="7010280" y="4495680"/>
            <a:ext cx="1238400" cy="933480"/>
          </a:xfrm>
          <a:prstGeom prst="rect">
            <a:avLst/>
          </a:prstGeom>
          <a:ln w="0">
            <a:noFill/>
          </a:ln>
        </p:spPr>
      </p:pic>
      <p:sp>
        <p:nvSpPr>
          <p:cNvPr id="436" name="TextBox 10"/>
          <p:cNvSpPr/>
          <p:nvPr/>
        </p:nvSpPr>
        <p:spPr>
          <a:xfrm>
            <a:off x="959040" y="32767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11"/>
          <p:cNvSpPr/>
          <p:nvPr/>
        </p:nvSpPr>
        <p:spPr>
          <a:xfrm>
            <a:off x="3168720" y="32767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5208120" y="327672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Box 13"/>
          <p:cNvSpPr/>
          <p:nvPr/>
        </p:nvSpPr>
        <p:spPr>
          <a:xfrm>
            <a:off x="7122240" y="373392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14"/>
          <p:cNvSpPr/>
          <p:nvPr/>
        </p:nvSpPr>
        <p:spPr>
          <a:xfrm>
            <a:off x="649440" y="5638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5"/>
          <p:cNvSpPr/>
          <p:nvPr/>
        </p:nvSpPr>
        <p:spPr>
          <a:xfrm>
            <a:off x="2778120" y="563868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17"/>
          <p:cNvSpPr/>
          <p:nvPr/>
        </p:nvSpPr>
        <p:spPr>
          <a:xfrm>
            <a:off x="5225760" y="54864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Box 18"/>
          <p:cNvSpPr/>
          <p:nvPr/>
        </p:nvSpPr>
        <p:spPr>
          <a:xfrm>
            <a:off x="7138800" y="541008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participat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 – tic –  i - pat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en you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ticipat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n something, you join i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girls always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ticipat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n socc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wen wants to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articipat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n the singing contest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rebuchet MS"/>
              </a:rPr>
              <a:t>Thanksgiving USA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21337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ges 306-309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Student Pages"/>
          <p:cNvPicPr/>
          <p:nvPr/>
        </p:nvPicPr>
        <p:blipFill>
          <a:blip r:embed="rId2"/>
          <a:stretch/>
        </p:blipFill>
        <p:spPr>
          <a:xfrm>
            <a:off x="185760" y="380880"/>
            <a:ext cx="895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Student Pages"/>
          <p:cNvPicPr/>
          <p:nvPr/>
        </p:nvPicPr>
        <p:blipFill>
          <a:blip r:embed="rId2"/>
          <a:stretch/>
        </p:blipFill>
        <p:spPr>
          <a:xfrm>
            <a:off x="160200" y="228600"/>
            <a:ext cx="8983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51920" y="15998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she washed the dogs tai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She washed the dog’s tai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at mad him happ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at made him happy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361960"/>
            <a:ext cx="26672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listen to the song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2" name="Picture 2" descr="Holidays"/>
          <p:cNvPicPr/>
          <p:nvPr/>
        </p:nvPicPr>
        <p:blipFill>
          <a:blip r:embed="rId2"/>
          <a:srcRect l="2876" t="0" r="0" b="7909"/>
          <a:stretch/>
        </p:blipFill>
        <p:spPr>
          <a:xfrm>
            <a:off x="3809880" y="0"/>
            <a:ext cx="524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y’s sh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s of two gir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y’s sh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es a possessive noun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make a noun possessiv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ars of on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s of two 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irt of one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s of two gir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g’s 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ts’ 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y’s sh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rls’ do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Make Introductio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you are talking with others, use a pleasant tone and listen carefull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you introduce people who have never met before, you should include their names and how you know them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f I want to introduce Jack and Jill, I’ll say, “Jack, this is my friend Jill.  Jill, this is my friend Jack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member to make eye contact and speak directly to the listen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ext to Self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Talk About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e heard a story about a boy who gets to celebrate his birthday with everyone from school.  Tomorrow we will hear about Billy and his birthday celebration agai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 about a special holida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ri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60020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is week we read about many celebrations.  Thanksgiving, Chinese New Year, and birthdays are all things to celebrate.  How can we add to a celebratio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rebuchet MS"/>
              </a:rPr>
              <a:t>Read-Aloud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Trebuchet MS"/>
              </a:rPr>
              <a:t>The Blizzard 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6094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o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verb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umb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495680" y="2057400"/>
          <a:ext cx="3927600" cy="41911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rticip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co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nqu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im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isp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late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What do you know about reading this word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oday we’ll learn about 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words that also stand for the </a:t>
            </a:r>
            <a:r>
              <a:rPr b="1" lang="en-US" sz="4000" spc="-1" strike="noStrike">
                <a:solidFill>
                  <a:srgbClr val="cc3300"/>
                </a:solidFill>
                <a:latin typeface="Trebuchet MS"/>
              </a:rPr>
              <a:t>long a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sound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paid the bills and put them in the mail toda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bills and put them in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the quaint painting of the home by the ba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bills and put them in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quai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nt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f the home by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snail makes a trail as it inches its way along the sa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bills and put them in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quai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nt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f the home by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n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ke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r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s it inches its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w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long the sa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t is a gray day because of the rai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m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bills and put them in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quai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aint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f the home by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n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ake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trai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s it inches its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w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long the sa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t is a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gr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because of the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rain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428640" y="151920"/>
            <a:ext cx="53341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pr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VCe-When a word has a vowel-consonant-silent e pattern, the vowel usually stands for its long soun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make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race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plate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VVC-When two vowels appear together in a word or syllable, the first usually stands for its long sound and the second is silen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braid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nai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rain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VV –The letters ay usually stand for the long a soun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da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pla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ta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V – When a word or a syllable ends with a single vowel, the vowel sound is usually long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paper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bab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lab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7" name="Picture 2" descr="C:\Users\Freida Lewis\Desktop\sound cards\Card 2.jpg"/>
          <p:cNvPicPr/>
          <p:nvPr/>
        </p:nvPicPr>
        <p:blipFill>
          <a:blip r:embed="rId2"/>
          <a:stretch/>
        </p:blipFill>
        <p:spPr>
          <a:xfrm>
            <a:off x="380880" y="228600"/>
            <a:ext cx="2724120" cy="634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, hour, _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, hour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, in front, __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, hour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, in fron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w, pledge, __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oor, promise, sorry, everybody, behind, minute, broug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give, regre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ng, bringing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nob, lock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ll, everyon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, hour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bove, in front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w, pledge, </a:t>
            </a:r>
            <a:r>
              <a:rPr b="1" lang="en-US" sz="3200" spc="-1" strike="noStrike">
                <a:solidFill>
                  <a:srgbClr val="990000"/>
                </a:solidFill>
                <a:latin typeface="Trebuchet MS"/>
              </a:rPr>
              <a:t>promi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it wasnt’ long befoe they lef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It wasn’t long before they lef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what fune they had.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What fun they had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362320" y="190512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ocabulary &amp; Amazing Word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Jig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elling Word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ia Gam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elling C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igh Frequency Word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Hot Potatoes (fill-in-the-blank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ri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st activities during a holiday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168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lated Link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1828800" y="1981080"/>
          <a:ext cx="6781680" cy="441972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44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 on Brain Po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ood Gam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lly Turkey Starfa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miles and Metaphor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 P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ere's Buster?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nited Streaming Video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 Facts and Fun: Thanksgiv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en Two Vowels Go Walking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ideo clip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tween the Li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ssword Puzz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ng a wo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ng a words Picture Hun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arfa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APTPlus Video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(Password Required)</a:t>
            </a: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380880" y="2286000"/>
          <a:ext cx="8305920" cy="26510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 Facts and Fun: Thanksgiving [12:28]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imated Hero Classics: William Bradford: The First Thanksgiving [27:43]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.S. Celebrations [13:00]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ymouth Plantation [15:00]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aid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ake our story tests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68360" y="1981080"/>
            <a:ext cx="61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tory tes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assroom webpage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udent page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Taking Tes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R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ther Reading Quizz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Quiz # 904596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tay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t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y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8080"/>
                </a:solidFill>
                <a:latin typeface="Trebuchet MS"/>
              </a:rPr>
              <a:t>Small Groups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Timer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You can blend longer words with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long a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by dividing them into smaller chunks, or syllabl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a word or syllable ends with a single vowel, the vowel sound is usually long.  Read one syllable at a time and then blend them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o d</a:t>
            </a:r>
            <a:r>
              <a:rPr b="1" lang="en-US" sz="28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828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lend these words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n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r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r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w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828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lend these words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0000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rebuchet MS"/>
              </a:rPr>
              <a:t>Building Word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a – i – o  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b – d – n 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r – t - y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Word Reading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8640" y="182880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k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w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ai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rac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ai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az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5880" y="182880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t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r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arch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fra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w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atc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nice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p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ni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Picture 2" descr="http://tbn1.google.com/images?q=tbn:hA6B5S5eVtR8YM:http://femmesfatales.typepad.com/.a/6a00d8341cfbd053ef011278f8309e28a4-800wi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209680"/>
            <a:ext cx="1015920" cy="1524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tbn1.google.com/images?q=tbn:tuqlvF-oLIthdM:http://www.dogbreedinfo.com/images19/MiceAdorableSiamese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52480" y="4572000"/>
            <a:ext cx="1930680" cy="1447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ttp://tbn2.google.com/images?q=tbn:_qrS8ETPjtfnQM:http://keetsa.com/blog/wp-content/uploads/2007/10/ric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57800" y="4724280"/>
            <a:ext cx="1819440" cy="1360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http://tbn3.google.com/images?q=tbn:Gmy_5YfP90jUDM:http://justinspaintings.com/images/p167_WatermelonSlice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0" y="24382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http://tbn0.google.com/images?q=tbn:LjVstt7gCyOWQM:http://www.espicebazar.com/images/three_tier_wood_spice_rack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657600" y="2286000"/>
            <a:ext cx="1419120" cy="18129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9"/>
          <p:cNvSpPr/>
          <p:nvPr/>
        </p:nvSpPr>
        <p:spPr>
          <a:xfrm>
            <a:off x="720360" y="37339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014360" y="41148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7421400" y="41148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2239560" y="60199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5888160" y="6095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ride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057400" y="2286000"/>
          <a:ext cx="6359400" cy="4111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r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Picture 2" descr="http://tbn1.google.com/images?q=tbn:PreVE89YILxFQM:http://i.ehow.com/images/GlobalPhoto/Articles/2274096/hide-main_Fu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2209680"/>
            <a:ext cx="2006640" cy="1343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://tbn2.google.com/images?q=tbn:3jKGWC0jMCZEbM:http://www.wildnatureimages.com/S%2520to%2520Z/SURFING_BOAR_TID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62520" y="2209680"/>
            <a:ext cx="1341360" cy="2057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http://tbn0.google.com/images?q=tbn:Bjy4iQuf6YZdrM:http://www.bellanaija.com/wp-content/uploads/2009/03/bride-wars_l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81680" y="2209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http://tbn3.google.com/images?q=tbn:Vv9_qaDmXf_VTM:http://www.warrenwindsports.com.au/files/photos/hang-glide-dee-kramer-fly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553080" y="4648320"/>
            <a:ext cx="204948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http://tbn0.google.com/images?q=tbn:E3GcQprxAqkWaM:http://www.sports-b2b.com/b2b/pics/Kids_Slide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809880" y="4952880"/>
            <a:ext cx="1451160" cy="106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http://tbn2.google.com/images?q=tbn:P0WiRZ6wJy0lnM:http://www.beyond-running.com/pho/stride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143000" y="4267080"/>
            <a:ext cx="1447920" cy="18478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0"/>
          <p:cNvSpPr/>
          <p:nvPr/>
        </p:nvSpPr>
        <p:spPr>
          <a:xfrm>
            <a:off x="1558440" y="3581280"/>
            <a:ext cx="7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4216680" y="426708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7274160" y="38862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1338120" y="60958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4"/>
          <p:cNvSpPr/>
          <p:nvPr/>
        </p:nvSpPr>
        <p:spPr>
          <a:xfrm>
            <a:off x="4145040" y="601992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5"/>
          <p:cNvSpPr/>
          <p:nvPr/>
        </p:nvSpPr>
        <p:spPr>
          <a:xfrm>
            <a:off x="7261200" y="6019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381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2"/>
              </a:rPr>
              <a:t>Arcade Gam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3"/>
              </a:rPr>
              <a:t>Jig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4"/>
              </a:rPr>
              <a:t>Match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5"/>
              </a:rPr>
              <a:t>Speed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6"/>
              </a:rPr>
              <a:t>Wordsearc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7"/>
              </a:rPr>
              <a:t>Word Web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8"/>
              </a:rPr>
              <a:t>Spelling City –Vo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9"/>
              </a:rPr>
              <a:t>Spelling City-Amaz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2520" y="1980720"/>
            <a:ext cx="389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pelling Word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0"/>
              </a:rPr>
              <a:t>Speedwo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1"/>
              </a:rPr>
              <a:t>Word Web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2"/>
              </a:rPr>
              <a:t>Quia Gam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3"/>
              </a:rPr>
              <a:t>Spelling C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High Frequency Word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4"/>
              </a:rPr>
              <a:t>Fill-in-the Blan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5"/>
              </a:rPr>
              <a:t>Spelling City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ea typeface="Arial"/>
                <a:hlinkClick r:id="rId1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Let Talk About Working Together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www.pearsonsuccessnet.com/snpapp/iText/products/0-328-35331-0/unit2/ui-images/blank.gif"/>
          <p:cNvPicPr/>
          <p:nvPr/>
        </p:nvPicPr>
        <p:blipFill>
          <a:blip r:embed="rId2"/>
          <a:stretch/>
        </p:blipFill>
        <p:spPr>
          <a:xfrm>
            <a:off x="168120" y="-351000"/>
            <a:ext cx="561960" cy="743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Student Pages"/>
          <p:cNvPicPr/>
          <p:nvPr/>
        </p:nvPicPr>
        <p:blipFill>
          <a:blip r:embed="rId3"/>
          <a:stretch/>
        </p:blipFill>
        <p:spPr>
          <a:xfrm>
            <a:off x="0" y="152280"/>
            <a:ext cx="916308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Draw Conclusio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o draw conclusions, we use what we know about real life and what we read to figure out more about the characters and what happens in the stor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Good readers ask themselves if their conclusions make sens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Read-Alou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Happy’s Holiday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The dog had pant on his ta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dog had paint on his tail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e wantted to wash it awae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He wanted to wash it away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467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lural nouns name more than one person, place, animal, or thing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ome nouns change spelling when they become plur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 noun that shows who or what owns something is a 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possessive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nou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o show ownership, add an apostrophe (’) and –s when the noun is 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singular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turkey’s tail  (one turkey, singular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dd just an apostrophe (’) when the noun is </a:t>
            </a: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plural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rabbits’ tails  (more than one rabbit, plural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appy the Dog’s party was fun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ll of his friend’s food was very goo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All of his friends’ food was very goo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ermans’ belly was full after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901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rebuchet MS"/>
              </a:rPr>
              <a:t>Herman’s belly was full after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3619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ead of one hor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horse’s hea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gs of two goa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goats’ leg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ne of one l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lion’s ma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nner of several animal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animals’ dinn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094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o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verb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umb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495680" y="2057400"/>
          <a:ext cx="3927600" cy="41911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rticip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co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nqu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im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isp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  a: a, ai, 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raw Conclus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Talk About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omorrow we will read about a group of animals who are celebrating Thanksgivi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st friends you would like to dine with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438280" y="2438280"/>
          <a:ext cx="6096240" cy="36021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 we will read about a holiday celebration.  We will read about what a group of animals does on Thanksgiving day.  What do you usually do on Thanksgivin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438280" y="2438280"/>
          <a:ext cx="6096240" cy="36021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Toda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we will read about a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holida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celebration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 We will read about what a group of animals does on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Thanksgiving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da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 What do you usually do on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Thanksgiving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azing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rawing conclus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isualiz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02880" y="3049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2860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decorat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 – o –rate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you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orate,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ke it as pretty as you ca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y mom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orat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my birthday cake with baseballs made of frosti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ecorat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the Thanksgiving dinner table with little turkeys we made out of pap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banquet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 - qu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que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s a very special dinn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ur school held a special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que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n the gym for all the parent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re was an award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anque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t the end of the season for all the team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flar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something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it flames or lights briefly and unsteadil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campfire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up before it went ou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d struck a match to light the birthday candles, and they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ar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up quickl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Read-Alou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My First Chinese New Year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62520" y="2133720"/>
          <a:ext cx="3470040" cy="452916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aim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You can read this word because you know how to read words with the long a soun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ich letters makes the long a sound in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claim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hen the letters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re together in a word or syllable,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stands for its long vowel sound and the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i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or </a:t>
            </a: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is silent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en 2 vowels go walking,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first does the talk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econd one stays quie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8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81120" y="1828440"/>
            <a:ext cx="3048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etai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irthd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fra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aystac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m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ray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pl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ayb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bt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0" y="4568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36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724280" y="19807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rebuchet MS"/>
              </a:rPr>
              <a:t>Pick out the words with a long a sound in “A Party Plan.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az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it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ai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2" name="Picture 6" descr="Phonics Songs and Rhymes Chart 10"/>
          <p:cNvPicPr/>
          <p:nvPr/>
        </p:nvPicPr>
        <p:blipFill>
          <a:blip r:embed="rId2"/>
          <a:srcRect l="0" t="0" r="454" b="12220"/>
          <a:stretch/>
        </p:blipFill>
        <p:spPr>
          <a:xfrm>
            <a:off x="228600" y="152280"/>
            <a:ext cx="44830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733920" y="2133720"/>
          <a:ext cx="5105160" cy="435456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i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i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a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play, spray, mail, hay, waist, braid, today, paint, stain, aw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733920" y="2133720"/>
          <a:ext cx="5105160" cy="4416480"/>
        </p:xfrm>
        <a:graphic>
          <a:graphicData uri="http://schemas.openxmlformats.org/drawingml/2006/table">
            <a:tbl>
              <a:tblPr/>
              <a:tblGrid>
                <a:gridCol w="2603520"/>
                <a:gridCol w="250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i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a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r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Long a: </a:t>
            </a:r>
            <a:r>
              <a:rPr b="1" i="1" lang="en-US" sz="4400" spc="-1" strike="noStrike">
                <a:solidFill>
                  <a:srgbClr val="ffff00"/>
                </a:solidFill>
                <a:latin typeface="Trebuchet MS"/>
              </a:rPr>
              <a:t>a, ai, 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05120" y="22860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ll you stay and paint toda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ll you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t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pai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to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id you say we will raise the tra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id you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s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we will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rais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tr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can’t wait to play over the holida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can’t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wai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o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ver the </a:t>
            </a:r>
            <a:r>
              <a:rPr b="1" lang="en-US" sz="3200" spc="-1" strike="noStrike">
                <a:solidFill>
                  <a:srgbClr val="cc3300"/>
                </a:solidFill>
                <a:latin typeface="Trebuchet MS"/>
              </a:rPr>
              <a:t>holiday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905120" y="1905120"/>
          <a:ext cx="2590560" cy="45241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m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24280" y="190512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il              pa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in           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it           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y             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way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ol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y 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ise          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rai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quit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(online dictionary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600200" y="1828800"/>
          <a:ext cx="6359400" cy="472428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k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ord Family Word – qui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2" descr="http://tbn2.google.com/images?q=tbn:mUu240jXeQofdM:http://www.andersonmilitaria.com/images/misc/indian/HorseBi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228600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tbn2.google.com/images?q=tbn:jmrqaIMulLRymM:http://www.brutalsunstudio.com/art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2286000"/>
            <a:ext cx="1266840" cy="1104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tbn1.google.com/images?q=tbn:bf9lSB2zFEkATM:http://www.health.state.ny.us/environmental/emergency/images/first_aid_kit_480x360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57600" y="2286000"/>
            <a:ext cx="1371600" cy="1031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http://tbn2.google.com/images?q=tbn:9wnm3pwpJW-pkM:http://www.precisionbaseballone.com/images/mit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181480" y="2286000"/>
            <a:ext cx="1098720" cy="914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http://tbn0.google.com/images?q=tbn:i9p0AK79RxIXNM:http://z.about.com/d/pediatrics/1/0/x/3/nits_expl.gif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523880" y="44197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http://tbn1.google.com/images?q=tbn:M2_JpZSZUWI-MM:http://medent.usyd.edu.au/photos/nit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80880" y="4419720"/>
            <a:ext cx="1009800" cy="112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http://tbn1.google.com/images?q=tbn:wPeVfQMzx0-Q9M:http://monsterguide.net/images/how-to-build-a-fire-pit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819520" y="4419720"/>
            <a:ext cx="1123920" cy="1028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http://tbn3.google.com/images?q=tbn:-DkPVAnH3oghIM:http://2.bp.blogspot.com/_v5HQSW-LL0g/SAfOfBmUhbI/AAAAAAAAA8E/5yyJwR8C8mg/s400/zit.jpg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191120" y="44197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8" descr="http://tbn3.google.com/images?q=tbn:eayLyvrCanBj1M:http://www.stitchdiva.com/images/tutorials/knit/knit3.jpg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638680" y="4419720"/>
            <a:ext cx="1295640" cy="1068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0" descr="http://tbn1.google.com/images?q=tbn:PC25BJ-Bi2iQwM:http://img.photobucket.com/albums/v383/bethvigil/FallGiftLineSkit.jpg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6400800" y="2286000"/>
            <a:ext cx="1216080" cy="914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2" descr="http://tbn1.google.com/images?q=tbn:d78h51XK_Jr-CM:http://www.giftag.com/clip/jack-larry/halter-evening-gown-with-thigh-high-front-slit-clothing-prom-dresses-zaphoncom-clip.jpg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7848720" y="2133720"/>
            <a:ext cx="733320" cy="1228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4" descr="http://tbn3.google.com/images?q=tbn:q-yfnqqKxxBY6M:http://www.csupomona.edu/~meatlab/images/PigSpit.jpg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7162920" y="441972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6"/>
          <p:cNvSpPr/>
          <p:nvPr/>
        </p:nvSpPr>
        <p:spPr>
          <a:xfrm>
            <a:off x="1684080" y="342900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17"/>
          <p:cNvSpPr/>
          <p:nvPr/>
        </p:nvSpPr>
        <p:spPr>
          <a:xfrm>
            <a:off x="4037400" y="335268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5412960" y="32004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6645600" y="3200400"/>
            <a:ext cx="6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7931880" y="33526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1150560" y="563868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22"/>
          <p:cNvSpPr/>
          <p:nvPr/>
        </p:nvSpPr>
        <p:spPr>
          <a:xfrm>
            <a:off x="3055680" y="548640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23"/>
          <p:cNvSpPr/>
          <p:nvPr/>
        </p:nvSpPr>
        <p:spPr>
          <a:xfrm>
            <a:off x="4502880" y="548640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24"/>
          <p:cNvSpPr/>
          <p:nvPr/>
        </p:nvSpPr>
        <p:spPr>
          <a:xfrm>
            <a:off x="60199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25"/>
          <p:cNvSpPr/>
          <p:nvPr/>
        </p:nvSpPr>
        <p:spPr>
          <a:xfrm>
            <a:off x="7640280" y="55627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Draw Conclusio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Drawing conclusions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eans using what you know about real life and what you read to figure out something about the characters and what happens in a stor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s you read, look for clues that will help you draw sensible conclusion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ink about what you know in real life to help you draw conclusions about the story you’re readi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Big Question:</a:t>
            </a: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How can we contribute to a celebratio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19720" y="2666880"/>
            <a:ext cx="4349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2" action="ppaction://hlinksldjump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3" action="ppaction://hlinksldjump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4" action="ppaction://hlinksldjump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5" action="ppaction://hlinksldjump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6" action="ppaction://hlinksldjump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isualize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When you </a:t>
            </a: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visualiz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something, you can picture it in your min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aying attention to how something is described can help readers to imagine it and understand what they rea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sk yourself these questions as you read “A Turkey for Thanksgiving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ow can I picture what is happening as I read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at do the pictures in my mind remind me of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at words help me imagine what is being described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029200" y="205740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n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h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High-Frequenc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81280" y="18288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r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a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verybo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5530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on’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ho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mi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rai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800600" y="2057400"/>
          <a:ext cx="4038480" cy="44434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0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Vocabulary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anksgiv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ov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verban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umbere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2" action="ppaction://hlinksldjump"/>
              </a:rPr>
              <a:t>Thanksgiving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– a holiday for giving than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3" action="ppaction://hlinksldjump"/>
              </a:rPr>
              <a:t>hoove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– the hard bottom part of the feet of animals such as moose, deer, horses, and sheep (one hoof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4" action="ppaction://hlinksldjump"/>
              </a:rPr>
              <a:t>riverbank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– the rising ground beside a riv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umbered – moved slowly and awkwardl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5" action="ppaction://hlinksldjump"/>
              </a:rPr>
              <a:t>Next sli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rebuchet MS"/>
                <a:hlinkClick r:id="rId2" action="ppaction://hlinksldjump"/>
              </a:rPr>
              <a:t>Thanksgiv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Picture 2" descr="http://tbn2.google.com/images?q=tbn:nq32GjLlshnpSM:http://greenlanternpress.files.wordpress.com/2008/11/thanksgivin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981080"/>
            <a:ext cx="2793960" cy="2362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http://tbn1.google.com/images?q=tbn:MEgJRGUGbp8zlM:http://www.momtomom.org/uploaded_images/Thanksgiving-703525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3048120"/>
            <a:ext cx="2722680" cy="2438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http://tbn3.google.com/images?q=tbn:ybdDljs_AqyysM:http://xrlq.com/Images/HappyThanksgivin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29400" y="3657600"/>
            <a:ext cx="1982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rebuchet MS"/>
                <a:hlinkClick r:id="rId2" action="ppaction://hlinksldjump"/>
              </a:rPr>
              <a:t>hoov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3" name="Picture 2" descr="http://tbn0.google.com/images?q=tbn:zIdYPqWB52TXXM:http://www.falabella.co.uk/hoove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2362320"/>
            <a:ext cx="2743200" cy="2657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http://tbn1.google.com/images?q=tbn:XgcpCNt0pRsIYM:http://www.mackinawdells2.com/mustang%2520hooves%2520JJ%2520006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3400" y="3352680"/>
            <a:ext cx="38098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rebuchet MS"/>
                <a:hlinkClick r:id="rId2" action="ppaction://hlinksldjump"/>
              </a:rPr>
              <a:t>riverbank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Picture 2" descr="http://tbn1.google.com/images?q=tbn:y0-Zw4aUvIFpmM:http://www.riverbanktearooms.co.uk/Riverbank_view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2209680"/>
            <a:ext cx="3505320" cy="2614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http://tbn0.google.com/images?q=tbn:K2QMpXSf-UerGM:http://www.jimwegryn.com/Photos/River%2520bank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29200" y="3276720"/>
            <a:ext cx="3411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__________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’ ______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 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382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s are a pleasant time when people gather together to celebrate.  How can we contribute to a celebratio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’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hooves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 ran up the ____ as fast as I coul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’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hooves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 ran up the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riverbank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s fast as I coul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______ out of their way just in tim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’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hooves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 ran up the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riverbank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s fast as I coul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______ out of their way just in tim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and I went for a hike after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hanksgiving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dinn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We heard cows’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hooves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behind u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 ran up the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riverbank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as fast as I coul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y old dog </a:t>
            </a: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lumbered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out of their way just in tim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Daily Fix-I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e dog askked the cat for help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dog asked the cat for help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the cat told the dog to wa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cc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rebuchet MS"/>
              </a:rPr>
              <a:t>The cat told the dog to wait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Possessive Noun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362320" y="1980720"/>
            <a:ext cx="6781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 noun that shows who or what owns something is a possessive noun.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o show ownership, add an apostrophe and –s when the noun is singula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dd just an apostrophe when the noun is plur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igh Frequency Wo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isualiz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Talk About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omorrow we will read about a celebration from another countr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 about your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vorite holida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edne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36232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 we will read about Chinese New Year.  Everyone in the family contributes to the celebration.  How have you contributed to your family celebration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urkey for Thanksgiving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ednesday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36232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day we will read about Chinese New Year.  Everyone in the family contributes to the celebration.  How have you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contribut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o your family celebration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Turkey for Thanksgiving</a:t>
            </a: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382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Trebuchet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idays are a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pleasant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time when </a:t>
                      </a:r>
                      <a:r>
                        <a:rPr b="1" i="1" lang="en-US" sz="3200" spc="-1" strike="noStrike">
                          <a:solidFill>
                            <a:srgbClr val="cc3300"/>
                          </a:solidFill>
                          <a:latin typeface="Trebuchet MS"/>
                        </a:rPr>
                        <a:t>peopl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gather together to celebrate.  How can we contribute to a celebratio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mazing Word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lural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ng a: a, ai, a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igh Frequency Word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imiles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ossessive Nou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02880" y="3049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urkey for Thanksgiv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2860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glimmer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 - mer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s an unsteady light. Something that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shines with an unsteady ligh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ars twinkled and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n the dark night sk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 saw a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glimme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of light down the path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whisper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 – per - y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something i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per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it sounds like a whisper with a soft, rustling sou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blowing snow wa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per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gainst the window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wind was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whisper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n the dead leaves of the tre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Read-Alou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My First Chinese New Year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os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tch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unn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You can read these words because you know how to read plurals –s, -es, -i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You can cover the ending, read the base word, and then blend the base word and the ending to read the whole wor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28600" y="1828800"/>
          <a:ext cx="8610480" cy="450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se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0-10-14T21:03:37Z</dcterms:modified>
  <cp:revision>68</cp:revision>
  <dc:subject/>
  <dc:title>Slide 1</dc:title>
</cp:coreProperties>
</file>